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1EFF-E061-4B4A-82C0-975C42143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06C4-F8DA-4F5E-B735-B30AF9B7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84C7-4926-4D62-B63B-6641253F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0D87-00A2-454A-86DB-59D55B92A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AC94-B930-41FA-B8A1-01F77B208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5CD1-4AE7-41F2-AFB5-9C3B65AB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0BE2-05D5-42C8-8B80-1D049627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4F96-85FE-48CD-B80A-A738FB29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B0C0-CCB2-42BD-B915-9411E3D1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7D34-8691-4FFB-A943-DEF5C599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DEB67-617A-4949-AD28-7EEF46F9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C26E-2978-485E-9F57-6D480B3E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D763-A20B-46E5-9C83-05651D2C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2D07-BF8D-4057-89A4-F3E13441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18B8-BB0F-46B3-93BA-81EEEFA3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C423-12AE-4289-AFE1-AA02D68A6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236B-066D-42ED-8880-7B65ECA21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D1BE-98B3-435D-8BB3-9DA6894E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BE88-A1BB-4955-9FE1-C9C1543B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3B74-A44E-4614-8BE0-5237FD1D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7B19-0FDC-490A-AEAF-7644ACCC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DB39-8054-4E01-BBC6-BC80B061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547C-8D18-4562-91F8-E74226C1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5834-9B35-4AF7-BA9A-1EA96ABF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4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4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4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4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08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08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3B6A-011E-4728-84DA-72741D7F3713}" type="slidenum">
              <a:rPr b="0" lang="en-US" sz="1400" spc="-1" strike="noStrike">
                <a:solidFill>
                  <a:srgbClr val="00408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08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08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6810-1973-460C-B902-65A0A31C4B16}" type="slidenum">
              <a:rPr b="0" lang="en-US" sz="1400" spc="-1" strike="noStrike">
                <a:solidFill>
                  <a:srgbClr val="00408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408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408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408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408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408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4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408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Going My Way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Hayden and Allison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Destination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696080" cy="685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Milwaukee, WI to Scotlandville, LA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828800" y="2209680"/>
            <a:ext cx="548640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Means of transportation: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7772400" cy="4419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080"/>
                </a:solidFill>
                <a:latin typeface="Times New Roman"/>
              </a:rPr>
              <a:t>Fares: 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Delta Airlines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Milwaukee, WI to Scotlandville, LA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$473.91 Per Passenger Round Trip Coach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Principle ticket price- $433.01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Fees- $40.91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3 People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Plane Tickets- $1421.70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080"/>
                </a:solidFill>
                <a:latin typeface="Times New Roman"/>
              </a:rPr>
              <a:t>To Baton Rouge: 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Depart- 2:35 PM April 1</a:t>
            </a:r>
            <a:r>
              <a:rPr b="0" lang="en-US" sz="1600" spc="-1" strike="noStrike" baseline="30000">
                <a:solidFill>
                  <a:srgbClr val="004080"/>
                </a:solidFill>
                <a:latin typeface="Times New Roman"/>
              </a:rPr>
              <a:t>st</a:t>
            </a: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 2009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Arrive in LA at 7:17  PM 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1 stop in Atlanta, GA 1 hr 8 min layover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080"/>
                </a:solidFill>
                <a:latin typeface="Times New Roman"/>
              </a:rPr>
              <a:t>To Milwaukee: 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Depart- 7:45 AM April 15, 2009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Arrive in Milwaukee- 12:03 PM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400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4080"/>
                </a:solidFill>
                <a:latin typeface="Times New Roman"/>
              </a:rPr>
              <a:t>1 stop in Atlanta, GA 57 min layover</a:t>
            </a: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37515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Layovers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To Baton Rouge: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Depart- 2:35 PM April 1st 2009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Arrive in LA at 7:17 PM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1 stop in Atlanta, GA 1 hr 8 min layover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To Milwaukee: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Depart- 7:45 AM April 15, 2009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Arrive in Milwaukee- 12:03 PM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4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0"/>
                </a:solidFill>
                <a:latin typeface="Verdana"/>
              </a:rPr>
              <a:t>1 stop in Atlanta, GA 57 min layover</a:t>
            </a: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408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Rental Car: 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4419720" cy="44960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Times New Roman"/>
              </a:rPr>
              <a:t>$190.49 Per Week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Times New Roman"/>
              </a:rPr>
              <a:t>2 Weeks. 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4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Times New Roman"/>
              </a:rPr>
              <a:t>$380.98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0"/>
                </a:solidFill>
                <a:latin typeface="Verdana"/>
              </a:rPr>
              <a:t>From Hertz Car Rental Services</a:t>
            </a:r>
            <a:endParaRPr b="0" lang="en-US" sz="32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495680" y="1981080"/>
            <a:ext cx="441972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cccccc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080"/>
                </a:solidFill>
                <a:latin typeface="Verdana"/>
              </a:rPr>
              <a:t>Map of the route of our plane: </a:t>
            </a:r>
            <a:endParaRPr b="0" lang="en-US" sz="4400" spc="-1" strike="noStrike">
              <a:solidFill>
                <a:srgbClr val="00408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0" y="1219320"/>
            <a:ext cx="4191120" cy="5638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69960" y="2181240"/>
            <a:ext cx="374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4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0"/>
                </a:solidFill>
                <a:latin typeface="Arial"/>
              </a:rPr>
              <a:t>Milwaukee to Atlanta, Georgia</a:t>
            </a:r>
            <a:endParaRPr b="0" lang="en-US" sz="2400" spc="-1" strike="noStrike">
              <a:solidFill>
                <a:srgbClr val="004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080"/>
              </a:solidFill>
              <a:latin typeface="Arial"/>
            </a:endParaRPr>
          </a:p>
          <a:p>
            <a:pPr>
              <a:buClr>
                <a:srgbClr val="004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0"/>
                </a:solidFill>
                <a:latin typeface="Arial"/>
              </a:rPr>
              <a:t>Atlanta, Georgia to Baton Rouge, Louisiana</a:t>
            </a:r>
            <a:endParaRPr b="0" lang="en-US" sz="2400" spc="-1" strike="noStrike">
              <a:solidFill>
                <a:srgbClr val="004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13:14:42Z</dcterms:created>
  <dc:creator>MPS MPS</dc:creator>
  <dc:description/>
  <dc:language>en-US</dc:language>
  <cp:lastModifiedBy>MPS MPS</cp:lastModifiedBy>
  <dcterms:modified xsi:type="dcterms:W3CDTF">2009-04-02T14:07:46Z</dcterms:modified>
  <cp:revision>4</cp:revision>
  <dc:subject/>
  <dc:title>Going My Way</dc:title>
</cp:coreProperties>
</file>